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8DB9-265B-420F-A619-22E8C10579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ые реакции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 по тес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лан урока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ыводы световой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сновные выводы световой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, ОПАСНОС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НИМАНИЕ, ОПАСНОСТЬ!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ветовая и темнов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молекулы АТФ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в гранах хлоропласт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по циклу Кальвин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лиз вод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(световая и темновая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9D2-C7BA-4770-AE9A-EF42F88E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D0E0-9309-49B4-9257-33751744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1BC-E7C5-404D-BEE0-5D65C05F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7E3-F854-4CDF-BA00-0D83D1A2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0303-36B9-433E-92E1-CF9B5FFA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380A-0EF5-48DF-BC3C-74D5C1C1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E274-A643-47D5-AB86-817A0B6D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72E9-1FE6-4A5F-8C3F-980C4257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95C5-ECA4-4172-896B-0F16BEB3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341C-979D-4FA0-BB9B-10630615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A212-18D8-48D5-A4CF-FAB44E4C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7A6-2DB8-407F-B2C9-5ED8B11A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7043-F276-4EF9-A77D-B4486A34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30E4-CDC0-4CA2-8A08-FA9236C3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4A61-DF0C-43E7-B658-32446F95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F7EF-4F9A-4AC1-8FF8-A321CA98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3A22-6775-4E4D-BBC1-FAB72D8E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292-837D-4862-A6B7-B9F46C28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BC2-8583-43C6-8CA8-F3653473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70F-3654-44B8-95B3-CFF0BEF8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ED1-F84E-4209-9DE4-077033C0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31C-1341-4EDF-99CE-6B21A0E4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A01-47C4-44AA-B22F-A82A7BB6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385-70A5-4064-A252-3182120A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B071-18E9-4712-A0FB-AF95D5EA6B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969B-B99A-4702-8184-CAE714B8A0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Тема урока:</a:t>
            </a: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 «Темновая фаза фотосинтеза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7161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9efee"/>
                </a:solidFill>
                <a:latin typeface="Arial"/>
              </a:rPr>
              <a:t>План урока</a:t>
            </a:r>
            <a:r>
              <a:rPr b="1" i="1" lang="ru-RU" sz="2000" spc="-1" strike="noStrike">
                <a:solidFill>
                  <a:srgbClr val="b9efee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Основные выводы световой фазы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·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 Синтез глюкозы происходит в ходе циклического процесс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</a:t>
            </a:r>
            <a:r>
              <a:rPr b="0" lang="ru-RU" sz="900" spc="-1" strike="noStrike">
                <a:solidFill>
                  <a:srgbClr val="ffffff"/>
                </a:solidFill>
                <a:latin typeface="Garamond"/>
              </a:rPr>
              <a:t>2 ,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18 молекул АТФ, 12 НАДФ•Н и 24 прото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образование углерода в темновую фазу фотосинтез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484280"/>
          <a:ext cx="8207640" cy="5079960"/>
        </p:xfrm>
        <a:graphic>
          <a:graphicData uri="http://schemas.openxmlformats.org/drawingml/2006/table">
            <a:tbl>
              <a:tblPr/>
              <a:tblGrid>
                <a:gridCol w="3384720"/>
                <a:gridCol w="4822920"/>
              </a:tblGrid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нестойко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екулы пятиуглеродного соединения фиксируют углекислый газ, образуя нестойкое соеди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ФГ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естиуглеродное соединение под действием ферментов распадается на 2 трехуглеродные молекулы фосфоглицериновые кислоты (ФГ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3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помощью энергии АТФ и НАДФ•Н из трехуглеродной молекулы образуется молекула глюкозы и молекулы пятиуглеродного сахара (опять включается в цик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6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уммарное уравнение фотосинт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Значение фотосинтез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ВНИМАНИЕ, ОПАСНОСТЬ!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Групповая работа</a:t>
            </a:r>
            <a:br>
              <a:rPr sz="2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 (световая и темновая)</a:t>
            </a:r>
            <a:endParaRPr b="1" lang="en-US" sz="1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3:51:48Z</dcterms:created>
  <dc:creator>Admin</dc:creator>
  <dc:description/>
  <dc:language>en-US</dc:language>
  <cp:lastModifiedBy>LEGION</cp:lastModifiedBy>
  <dcterms:modified xsi:type="dcterms:W3CDTF">2015-11-27T10:46:16Z</dcterms:modified>
  <cp:revision>8</cp:revision>
  <dc:subject/>
  <dc:title>Тема урока: Темновая фаза фотосинтеза</dc:title>
</cp:coreProperties>
</file>